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824-A6CF-494A-9F56-AA773DBE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0A9-BA65-4CEC-89A3-14153DB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40E-9686-4908-A449-C51CD9E3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60A-3B3E-416F-9F91-4A1BD5BD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D7C-07B9-43F6-9E5D-6F53B07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E8C-E4FA-4918-AACE-702BA643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A4E-F46E-4B20-8008-6BF99A28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B8E-5806-465D-A8C5-111B567E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B24-DD67-4723-A4AB-3DAE55BD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BF6-6082-4F38-9A1F-EEDC309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8A6-3EFF-410D-AD79-E02B39DF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AF8-F80D-4979-B4DB-E6822F0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6D6B9-FA3C-4828-A0FC-EC4DB90AF58C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6888240"/>
            <a:ext cx="306072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905520"/>
            <a:ext cx="2063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 d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35040" y="6616800"/>
            <a:ext cx="242568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2:09:31Z</dcterms:modified>
  <cp:revision>9</cp:revision>
  <dc:subject/>
  <dc:title>PowerPoint Presentation</dc:title>
</cp:coreProperties>
</file>